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9FA-C894-4FAD-9418-CC247592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B3E-7DBD-47DA-BFA3-4A68B9B1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BDE-E164-42A9-AFE9-6AF9097D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962-3282-46FD-A4B6-48FCA1B0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9456-2BCB-48C3-B963-5A252C4D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20B9-BB1F-48B8-BA31-EB64CBB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A88-CCEF-4EC3-8CAB-58435FA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E3FC-7FE8-4B37-9082-1AA5CEC0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3BED-51BC-4EE8-90CA-914E9E9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C998-8964-426A-AD2D-18891192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D38-A5A7-44C7-921C-AFDE6D2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A8B-3DA8-474B-ABD7-98C485C3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B307-D939-4483-BA69-FAB2CBF1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78E-1ABF-4207-BD97-8123F4B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90F3-73FB-455A-BBB5-D8CAD4D6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0ED-08CF-41CF-A0D5-FAC95B81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C7CE-8EEA-4E16-9C11-4D164369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35C-E1D2-47F4-BD33-5580E85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F9A-2EBE-485B-9CE8-DB1698E8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ECD-2B94-4E5D-B8FD-0BD3250D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67B-45C1-42FE-ACF1-63AA8865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5D0-3EE4-480C-9BE4-7850568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6B9-8B8F-4CDB-A3E9-5A5186E4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792-D49A-4434-93F4-A19B94A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S. Nandagopalan, B I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BDDD-3B67-4313-ABEE-E2D6D4EDFCA6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Nandagopalan, B I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6BF-343F-4C6D-93E7-7E570EBBD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C# Programming and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.NET Concepts</a:t>
            </a:r>
            <a:endParaRPr b="1" lang="en-US" sz="4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08A-E5AC-4B08-9ACC-D0307C0071C1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R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(Common Language Runtime)</a:t>
            </a:r>
            <a:endParaRPr b="1" lang="en-US" sz="3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65276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sits on top of OS (same as JVM of Jav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loads modules containing executables and executes the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de may be 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managed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or un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d code consists of instructions in pseudo random code called 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CI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Common Intermediate Languag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. CIL instructions are  JIT compiled into native machine code at run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IT compiled methods reside in cache until the application’s life 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vantages of managed code: type safety, memory management, and code verification secur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can translate code from C#, J#, C, C++, VB, and Jscript into CI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doesn’t launch a new process for every application. It launches one process and hosts individual applications in application domai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S. Nandagopalan, B I 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4954-6450-415A-8B04-EC5EF54A8C92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990720" y="5029200"/>
            <a:ext cx="7467480" cy="1655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mmon Language Run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Base Class Librari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apsulates various primitives like: threads, file IO, graphical rendering, and other interaction with HW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also provides: database manipulation, XML integration, Web-enabled front-e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066680" y="5634000"/>
            <a:ext cx="7010640" cy="838080"/>
          </a:xfrm>
          <a:prstGeom prst="rect">
            <a:avLst/>
          </a:prstGeom>
          <a:solidFill>
            <a:srgbClr val="fe9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514840" y="5753160"/>
            <a:ext cx="2210040" cy="533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990720" y="3733920"/>
            <a:ext cx="74581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se Class Libr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447920" y="4343400"/>
            <a:ext cx="1752480" cy="380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re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447920" y="3809880"/>
            <a:ext cx="1752480" cy="3812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519360" y="4343400"/>
            <a:ext cx="1752840" cy="380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867280" y="4343400"/>
            <a:ext cx="1752840" cy="380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/SO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505320" y="3809880"/>
            <a:ext cx="1752480" cy="3812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AF70-B849-4B6C-B83D-8FCEDFA9A33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#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429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most same as Ja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pointers requi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ic memory management (No ‘delete’)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umeration, class, structure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 overloading allow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face-based programming techniq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 characteristics to types (same as COM ID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# can produce code that can run only on .NET environment (unlike COM server or Win32 AP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5EB8-3740-4F38-9149-AE0AF341B25D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Understanding Assembli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applications have dependencies on one or more DL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se DLLs may contain COM classes registered in System regist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these components are updated, applications may break –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'DLL hell'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Solution: .NET Assembl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# .NET compiler doesn't generate machine co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is compiled into "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assembl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5552-A220-4579-9063-D7967E40D37F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Assembly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Intermediate Language (IL/CIL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as first pass of compiler. It can't be executed (it is not in binary forma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Meta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s the assembly cont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need for component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assembly includes information about references to other assemb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If you have a class called Car in a given assembly, the type metadata describes Car's base class, which interfaces are implemented by Car, description of members of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457200" y="1300320"/>
            <a:ext cx="8077320" cy="1600200"/>
            <a:chOff x="457200" y="1300320"/>
            <a:chExt cx="8077320" cy="1600200"/>
          </a:xfrm>
        </p:grpSpPr>
        <p:sp>
          <p:nvSpPr>
            <p:cNvPr id="151" name="Rectangle 4"/>
            <p:cNvSpPr/>
            <p:nvPr/>
          </p:nvSpPr>
          <p:spPr>
            <a:xfrm>
              <a:off x="457200" y="1909800"/>
              <a:ext cx="2133720" cy="838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# source cod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429000" y="1909800"/>
              <a:ext cx="2286000" cy="8380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# .NET Compil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6553080" y="1300320"/>
              <a:ext cx="1981440" cy="1600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ssembl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4" name="Group 12"/>
            <p:cNvGrpSpPr/>
            <p:nvPr/>
          </p:nvGrpSpPr>
          <p:grpSpPr>
            <a:xfrm>
              <a:off x="7010280" y="1376280"/>
              <a:ext cx="1219320" cy="914400"/>
              <a:chOff x="7010280" y="1376280"/>
              <a:chExt cx="1219320" cy="914400"/>
            </a:xfrm>
          </p:grpSpPr>
          <p:sp>
            <p:nvSpPr>
              <p:cNvPr id="155" name="Rectangle 8"/>
              <p:cNvSpPr/>
              <p:nvPr/>
            </p:nvSpPr>
            <p:spPr>
              <a:xfrm>
                <a:off x="7010280" y="1376280"/>
                <a:ext cx="1219320" cy="9144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Metadat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L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9"/>
              <p:cNvSpPr/>
              <p:nvPr/>
            </p:nvSpPr>
            <p:spPr>
              <a:xfrm>
                <a:off x="7010280" y="18334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Rectangle 10"/>
            <p:cNvSpPr/>
            <p:nvPr/>
          </p:nvSpPr>
          <p:spPr>
            <a:xfrm>
              <a:off x="2895480" y="206208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5967360" y="20620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697-9DE5-4FCE-931D-3547F7B10C53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Assembly…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CLR loads your application, it examines your program's metadata to know which external assemblies are required for exec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Private assembl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by singl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not sha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preferred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Shared assembl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multiple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Assembly Ca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Manife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adata of assemblies: version, list of externally defined assembli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031-9D71-422C-BB13-995383A12F51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of CIL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CIL sits above a specific compiler (C#, J#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The associated compiler emits CIL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mespace Calcul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class CalcAp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static void Main(string[] arg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c c = new Calc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 ans = c.Add(10, 84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ole.WriteLine(an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ole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3280" y="1752480"/>
            <a:ext cx="450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class Cal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int Add(int x, int 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 return x + y;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All .NET aware languag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emit same CIL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105520" y="1676520"/>
            <a:ext cx="0" cy="44956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AC8E-5F3B-4417-9147-FEF6BEBE6DB9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IL of Add() Method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method public hidebysig instance int32  Add(int32 x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32 y) cil 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// Code size       8 (0x8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maxstack 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locals init ([0] int32 CS$00000003$00000000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0:  ldarg.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1:  ldarg.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2:  ad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3:  stloc.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4:  br.s       IL_00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6:  ldloc.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7:  r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 // end of method Calc::Ad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3A72-BE50-4DE3-9FD6-1FDD1033BDF5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Manifes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Verdana"/>
              </a:rPr>
              <a:t>.assembly extern mscorlib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publickeytoken = (B7 7A 5C 56 19 34 E0 89 )                         // .z\V.4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ver 1:0:5000: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assembly ConsoleApplication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hash algorithm 0x00008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ver 1:0:2058:3983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module ConsoleApplication1.ex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/ MVID: {51BE4F31-CBD0-4AE6-BC9D-F9A4976795FD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imagebase 0x0040000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subsystem 0x0000000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file alignment 409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corflags 0x0000000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/ Image base: 0x070b000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505320" y="685800"/>
            <a:ext cx="3047760" cy="1023840"/>
          </a:xfrm>
          <a:prstGeom prst="wedgeEllipseCallout">
            <a:avLst>
              <a:gd name="adj1" fmla="val -46407"/>
              <a:gd name="adj2" fmla="val 66124"/>
            </a:avLst>
          </a:prstGeom>
          <a:solidFill>
            <a:srgbClr val="cc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ternal Assemb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102-131E-4EBE-96D8-8B75F15D0DA4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IL to Execution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-3945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tter compiles CIL instructions on the fly into corresponding machine code and cache it. This is useful for not recompiling, if the same method is called ag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Group 20"/>
          <p:cNvGrpSpPr/>
          <p:nvPr/>
        </p:nvGrpSpPr>
        <p:grpSpPr>
          <a:xfrm>
            <a:off x="533520" y="1295280"/>
            <a:ext cx="8076960" cy="3032280"/>
            <a:chOff x="533520" y="1295280"/>
            <a:chExt cx="8076960" cy="3032280"/>
          </a:xfrm>
        </p:grpSpPr>
        <p:sp>
          <p:nvSpPr>
            <p:cNvPr id="178" name="Rectangle 5"/>
            <p:cNvSpPr/>
            <p:nvPr/>
          </p:nvSpPr>
          <p:spPr>
            <a:xfrm>
              <a:off x="533520" y="2422440"/>
              <a:ext cx="2133360" cy="838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I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3429000" y="2346120"/>
              <a:ext cx="2286000" cy="838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JI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553080" y="1295280"/>
              <a:ext cx="198144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Deskto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819520" y="272736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6629400" y="3641760"/>
              <a:ext cx="198108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Pocket PC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6553080" y="2431800"/>
              <a:ext cx="198144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 flipV="1">
              <a:off x="5867280" y="1659960"/>
              <a:ext cx="669960" cy="109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>
              <a:off x="5791320" y="272736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>
              <a:off x="5867280" y="2727360"/>
              <a:ext cx="76212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B204-95BB-4C4B-BD74-AEEA5258E4CD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Books for Referenc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# and the .NET Platform (2 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Andrew Troels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amtech Pub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soft Visual C# 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Mickey Willi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crosoft Pr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772E-72EB-4E68-B90B-40B7FF89A5BB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ommon Type System (CTS)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is a formal specification that describes how a given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typ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ust be defined for CL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Class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Structure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Interface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Enumeration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Delegate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545F-A219-42DD-B192-1998AD557920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TS Class Typ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me as C++ cla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contain members: methods, properties, events, et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for abstract members that define a polymorphic interface for derived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le inheritance is not allo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D0F-6AFF-4E0C-B2A4-ADAD48801538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TS Class Characteristic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"sealed"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ealed classes can't function as base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Implement any interfaces?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An interface is a collection of abstract memb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Abstract or Concrete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bstract classes (to define common behaviors for derived) can't be created directly but concrete classes c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Visibility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visibility attribute to know whether external assemblies can use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66640" y="479160"/>
            <a:ext cx="819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Structure typ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as C/C++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rived from a common base class System.ValueTy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Enumeration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group name/value pairs under a specific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ault Storage: System.Int32 (could be chang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Interface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as pure abstract class of C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description of work that a derived class can per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a class, but can never be instantia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Delegate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as C's function pointe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ystem.MulticastDelegat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for event handling (ASP .N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DAE-752F-4A3A-BB08-3C77A0AC5C93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Intrinsic CTS Data Typ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43000" y="1704960"/>
          <a:ext cx="6172200" cy="4511520"/>
        </p:xfrm>
        <a:graphic>
          <a:graphicData uri="http://schemas.openxmlformats.org/drawingml/2006/table">
            <a:tbl>
              <a:tblPr/>
              <a:tblGrid>
                <a:gridCol w="3352680"/>
                <a:gridCol w="28195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NET Base Ty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# Ty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UInt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i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D9E7-4E6D-4100-82A3-B6566E571954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ommon Language Specification 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Verdana"/>
              </a:rPr>
              <a:t>(CLS)</a:t>
            </a:r>
            <a:endParaRPr b="1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of guidelines that describe the minimal and complete set of features a given .NET aware compiler must sup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# uses </a:t>
            </a: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concatenation whereas VB .NET uses </a:t>
            </a: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# allows operator overloading but VB .NET does no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oid functions may differ in syntax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' VB .NET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// C#</a:t>
            </a:r>
            <a:r>
              <a:rPr b="0" lang="en-US" sz="2600" spc="-1" strike="noStrike">
                <a:solidFill>
                  <a:srgbClr val="0066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Public Sub Foo()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public void Foo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'…….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{ …….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End Sub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5C2F-697B-4D7D-B5C7-1AE0E9BF0188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S Complianc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47920" y="1752480"/>
          <a:ext cx="6138720" cy="4816440"/>
        </p:xfrm>
        <a:graphic>
          <a:graphicData uri="http://schemas.openxmlformats.org/drawingml/2006/table">
            <a:tbl>
              <a:tblPr/>
              <a:tblGrid>
                <a:gridCol w="3166920"/>
                <a:gridCol w="2971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# 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S Compli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2A4-7F94-4AB1-B03E-CCBE63A1713C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class Ca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// CLS compli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int Add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return x + y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// Not CLS compli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ul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(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ul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,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ul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return x + y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ce a method is CLS compliant, then all the .NET aware languages can interact with that implement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R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81080" y="380880"/>
            <a:ext cx="1524240" cy="1219320"/>
          </a:xfrm>
          <a:prstGeom prst="rect">
            <a:avLst/>
          </a:prstGeom>
          <a:gradFill rotWithShape="0">
            <a:gsLst>
              <a:gs pos="0">
                <a:srgbClr val="003000">
                  <a:alpha val="71372"/>
                </a:srgbClr>
              </a:gs>
              <a:gs pos="100000">
                <a:srgbClr val="006600">
                  <a:alpha val="6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NE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600200" y="2514600"/>
            <a:ext cx="1905120" cy="2362320"/>
          </a:xfrm>
          <a:prstGeom prst="rect">
            <a:avLst/>
          </a:prstGeom>
          <a:gradFill rotWithShape="0">
            <a:gsLst>
              <a:gs pos="0">
                <a:srgbClr val="003000">
                  <a:alpha val="71372"/>
                </a:srgbClr>
              </a:gs>
              <a:gs pos="100000">
                <a:srgbClr val="006600">
                  <a:alpha val="6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mscorlib.d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72000" y="2209680"/>
            <a:ext cx="2666880" cy="41911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.NET Execution Eng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5105520" y="25146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 Loa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5105520" y="34290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i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5105520" y="43434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for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105520" y="52578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3505320" y="2819520"/>
            <a:ext cx="1600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648320" y="304920"/>
            <a:ext cx="251460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NET Compi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648320" y="1235160"/>
            <a:ext cx="2514600" cy="593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LL or E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C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505320" y="609480"/>
            <a:ext cx="1112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5867280" y="914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86728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086440" y="21337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scoree.d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380880" y="5181480"/>
            <a:ext cx="3657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scoree.d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roSoft Comm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 Runtime Execution Eng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EC5B-9311-4BE4-8941-67E09EADD5B2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.NET Namespac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FC, Java, VB 6.0 have predefined set of classes; C# doesn'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# uses namespace 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language targeting the .NET runtime makes use of the same namespaces and same types as C#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stem is the root namesp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826-866B-4EE4-BFB0-DDB86BFF2FB3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hapter - 1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The Philosophy of .NE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1946-DF54-44B3-A216-9334FFBD542D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in C#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using System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Class MyAp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static void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ole.WriteLine("Hello World"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105520" y="762120"/>
            <a:ext cx="3047760" cy="761760"/>
          </a:xfrm>
          <a:prstGeom prst="wedgeRoundRectCallout">
            <a:avLst>
              <a:gd name="adj1" fmla="val -101875"/>
              <a:gd name="adj2" fmla="val 110000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 Name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791320" y="3111480"/>
            <a:ext cx="3047760" cy="1066680"/>
          </a:xfrm>
          <a:prstGeom prst="wedgeRoundRectCallout">
            <a:avLst>
              <a:gd name="adj1" fmla="val -152916"/>
              <a:gd name="adj2" fmla="val 74254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sole class in System Name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EC6-BD7F-4621-AED1-8DB122E09EFC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in VB .NE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Import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Module MyAp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ole.WriteLine("Hello World"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 Mo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F159-EA2A-4546-840B-D6645E3BB18B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in Managed C++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#using &lt;mscorlib.dll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using namespace System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id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ole::WriteLine("Hello World"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48B8-680C-4493-A9A0-FD50E1C1A0D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Sample .NET namespac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66640" y="1752480"/>
          <a:ext cx="8001000" cy="4299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itive types, garbage collection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Col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 objects: ArrayList, Queue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.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.Ole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.Sql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Database manipulations   ADO .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e IO, buffering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ra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rawing.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I+ primitives, bitmaps, fonts, ic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Th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e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9C7C-CD98-4E8B-BC54-A642396C8FD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Demo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11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ole Ap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Ap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keyboard_photo"/>
          <p:cNvPicPr/>
          <p:nvPr/>
        </p:nvPicPr>
        <p:blipFill>
          <a:blip r:embed="rId1"/>
          <a:stretch/>
        </p:blipFill>
        <p:spPr>
          <a:xfrm>
            <a:off x="4643280" y="1911240"/>
            <a:ext cx="3924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1817-75D1-4BF1-8E30-DDAFE3E4BDA3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08500"/>
                </a:solidFill>
                <a:latin typeface="Comic Sans MS"/>
              </a:rPr>
              <a:t>End of </a:t>
            </a:r>
            <a:r>
              <a:rPr b="1" lang="en-US" sz="4600" spc="-1" strike="noStrike">
                <a:solidFill>
                  <a:srgbClr val="e08500"/>
                </a:solidFill>
                <a:latin typeface="Comic Sans MS"/>
              </a:rPr>
              <a:t>Chapter 1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1D77-90D7-4B9F-B4E3-2D4AC83E37B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Objectiv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standing the previous state of affai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.NET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ing blocks of .NET Plat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R, CTS, and C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NET Base Class 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BB1F-7493-400A-A2BD-BE5451F2A313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3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Understanding the </a:t>
            </a:r>
            <a:br>
              <a:rPr sz="3800"/>
            </a:b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previous state of affair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63800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s a C/Win32 API Progra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is a short/abrupt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al memory management, ugly pointer arithmetic, ugly syntactic constr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OO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s a C++/MFC Progra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t is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++ with MFC is still complex and error-pr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s a VB 6 Progra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complete OOP (“Object-aware”) –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n’t support inher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multithre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parameteriz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level API calls are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009A-3758-4D66-9C51-E7A748D451A0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Verdana"/>
              </a:rPr>
              <a:t>Previous state of affairs…</a:t>
            </a:r>
            <a:endParaRPr b="1" lang="en-US" sz="4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s a Java/J2EE Program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Java front-to-back during development cyc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language freedom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re Java is not suitable for graphic intensive problems (E.g. 3D gam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cross-language inte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s a COM Program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lex creation of COM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emplate Library (AT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ced to contend with brittle/fragile registration ent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loyment 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3937-324C-4FD8-AEA5-528917FD9B1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.NET Solution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ll interoperability with existing Win32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isting COM binaries can interoperate with .NET binar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and total language integ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pports cross-language inheritance, exception handling, and debugg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mon runtime engine shared by all .NET aware languag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base class libra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ood object model used by all .NET aware languag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more COM plumbing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 IClassFactory, IUnKnown, IDispatch, etc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uly simplified deployment mod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 need to register a binary unit into the system regist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llows multiple versions of same *.d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D6D-6696-41FE-81C0-134C5B1FE385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.NET Framework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09480" y="5442120"/>
            <a:ext cx="5451480" cy="5778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09480" y="4799160"/>
            <a:ext cx="5451480" cy="577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Language Run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09480" y="4221000"/>
            <a:ext cx="5451480" cy="5144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09480" y="3643200"/>
            <a:ext cx="5451480" cy="5144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O.NET and 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609480" y="2679840"/>
            <a:ext cx="5451120" cy="900000"/>
            <a:chOff x="609480" y="2679840"/>
            <a:chExt cx="5451120" cy="900000"/>
          </a:xfrm>
        </p:grpSpPr>
        <p:sp>
          <p:nvSpPr>
            <p:cNvPr id="112" name="Rectangle 10"/>
            <p:cNvSpPr/>
            <p:nvPr/>
          </p:nvSpPr>
          <p:spPr>
            <a:xfrm>
              <a:off x="609480" y="2679840"/>
              <a:ext cx="3435120" cy="90000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SP.NE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 Forms   Web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4119120" y="2679840"/>
              <a:ext cx="1941480" cy="90000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Rectangle 12"/>
          <p:cNvSpPr/>
          <p:nvPr/>
        </p:nvSpPr>
        <p:spPr>
          <a:xfrm>
            <a:off x="609480" y="2101680"/>
            <a:ext cx="5451480" cy="51444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Language Spec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Group 13"/>
          <p:cNvGrpSpPr/>
          <p:nvPr/>
        </p:nvGrpSpPr>
        <p:grpSpPr>
          <a:xfrm>
            <a:off x="609480" y="1523880"/>
            <a:ext cx="5451120" cy="514440"/>
            <a:chOff x="609480" y="1523880"/>
            <a:chExt cx="5451120" cy="514440"/>
          </a:xfrm>
        </p:grpSpPr>
        <p:sp>
          <p:nvSpPr>
            <p:cNvPr id="116" name="Rectangle 14"/>
            <p:cNvSpPr/>
            <p:nvPr/>
          </p:nvSpPr>
          <p:spPr>
            <a:xfrm>
              <a:off x="609480" y="1523880"/>
              <a:ext cx="97056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1654560" y="1523880"/>
              <a:ext cx="96768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700360" y="1523880"/>
              <a:ext cx="97020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#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3745800" y="1523880"/>
              <a:ext cx="119160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JScrip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5015160" y="1523880"/>
              <a:ext cx="104544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J#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Rectangle 19"/>
          <p:cNvSpPr/>
          <p:nvPr/>
        </p:nvSpPr>
        <p:spPr>
          <a:xfrm>
            <a:off x="6210360" y="1523880"/>
            <a:ext cx="1866960" cy="4496040"/>
          </a:xfrm>
          <a:prstGeom prst="rect">
            <a:avLst/>
          </a:prstGeom>
          <a:gradFill rotWithShape="0">
            <a:gsLst>
              <a:gs pos="0">
                <a:srgbClr val="764600"/>
              </a:gs>
              <a:gs pos="100000">
                <a:srgbClr val="fe9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Studio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E86-9B28-43CF-87A1-9B9F57DE4F7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Building Blocks of .NE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R (Common Language Runti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locate, load, and manage .NET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matic memory management, language integration, and type safe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TS (Common Type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s all possible data types and programming constructs supported by the run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S (Common Language Specific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t of rules that defines a subset of types and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23:29Z</dcterms:created>
  <dc:creator> </dc:creator>
  <dc:description/>
  <dc:language>en-US</dc:language>
  <cp:lastModifiedBy>Admin</cp:lastModifiedBy>
  <dcterms:modified xsi:type="dcterms:W3CDTF">2017-09-07T10:30:58Z</dcterms:modified>
  <cp:revision>66</cp:revision>
  <dc:subject/>
  <dc:title>C# Programming and  .NET Concepts</dc:title>
</cp:coreProperties>
</file>